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5D9F5-AD23-4F0A-85C7-3A84923A6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49799-6AC3-4921-8E34-7D9565479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2D40B-8E0E-434F-9EF6-20DC60846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908E4-8A04-46EB-9392-4E985B6EA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A5510-49B8-4602-905C-3C1BF73F8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56E7A-484C-4606-AFE2-9D6233BE5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7BA9E-F4EF-46B2-A712-389795D26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8D316-C2EC-405F-9474-27C43F4C8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556D8-6068-4845-871D-0A7312563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AD6A1-3870-4C20-BB8D-7DCB31D2D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E055D-5FAA-486B-8372-F2018C9A0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576AE-6299-4411-9E03-D5F04D7FD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3868-1037-4F4A-868D-BC961D470C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703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andom Masters Presents</a:t>
            </a:r>
            <a:endParaRPr b="0" lang="en-US" sz="3600" spc="-1" strike="noStrike">
              <a:solidFill>
                <a:srgbClr val="000000"/>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Salamander OVA #1</a:t>
            </a:r>
            <a:endParaRPr b="0" lang="en-US" sz="72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evison 2.0</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btitled from Laserdisc catalog number G78F0288</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stered for Soyokaze Fansub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s 1988 Original Video Animation is the first of the three and only Salamander OVAs. This anime was based off the Konami videogame, available at arcades and the famicon/Nintendo Entertainment System (the 8-bit one) “Salamander”, known in the USA as “Life Force”.  After the OVA, I have included the Konami Game Music Remix Series Vol. 2: Salamander Remixes (KICA7819) although personally I dislike them, since IMO, it’s techno music that sounds nothing like the original game music.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0"/>
            <a:ext cx="9144000" cy="6746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tracks ar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 Junior O Has Penetrated the Force Field Mix / Junior O</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2. Red Devil Mix / Denial : Madamix</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 DJ Feilong X-Beat European Dub /DJ Feilong</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4. Junior O Lost in Dirty Space / Junior O</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5. Metalmix / Saru &amp; Vivan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6. File Mix / Shoko. F</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6963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title “Salamander” is written with four kanji characters: “wide”, “net”, “sand”, and “snake”. These mean nothing together and were only used because they give the reading “sa”, “ra” “man”, and “da” and it looks cool.</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video game itself is a side-story sequel to Gradius (another Konami shooter game.) Salamander at its time had awesome graphics, music, play control, and... Well, everything was totally awesome about it. Go in to your closet and dust off your NES and buy a copy of it toda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0"/>
            <a:ext cx="9144000" cy="6963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lamander the game is a 2D space shooter with 6 levels (in the famicon/NES version). The odd levels are side-scrolling whereas the even levels are top-to-bottom scrolling. There are several versions of the arcade game out. You can play with on your computer by downloading MAME and getting the ROMS.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re also was a Salamander 2 arcade game in the late 1990’s (1996?) but it was Japan-only and the game has not been decrypted yet :-( Although please look for it as it may now be availabl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6723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et’s hear it for OLD SCHOOL!!!</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AI!!! WAI!!! WAI!!! BANZAI!!!</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w I’ll try to buy the Ninja Ryukenden (Ninja Gaiden) Anime L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lease look forward to the remaining 2 OVAs soon. Just as soon as I get all the kinks out of the script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TW, artwork not included since I can’t scan LDs and the CD cover was, well, a poster of sorts. It just didn’t work out well. Sor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0"/>
            <a:ext cx="9144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0"/>
            <a:ext cx="9144000" cy="10038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quite credits, but the people who made this anime also brought you:</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rea 88</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cientific Ninja Team Gatchama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d from the same mecha designers a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egazone 23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per Dimensional Fortress Macros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imation by Studio Perriot ( Creamy Mami, Pelsia, Magical Emi, Pastel Yumi, Fancy Lala, Fushigi Yuugi, etc..)</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0" y="0"/>
            <a:ext cx="9144000" cy="858312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Times New Roman"/>
              </a:rPr>
              <a:t>ENJOY THE SHOW!!!</a:t>
            </a:r>
            <a:endParaRPr b="0" lang="en-US" sz="9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0T23:58:52Z</dcterms:created>
  <dc:creator>Jonathan Hertzog</dc:creator>
  <dc:description/>
  <dc:language>en-US</dc:language>
  <cp:lastModifiedBy>Jonathan Hertzog</cp:lastModifiedBy>
  <dcterms:modified xsi:type="dcterms:W3CDTF">2002-08-11T17:08:51Z</dcterms:modified>
  <cp:revision>9</cp:revision>
  <dc:subject/>
  <dc:title>No Slide Title</dc:title>
</cp:coreProperties>
</file>